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445625" cy="756285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1AEE-0A45-4FB6-9DC9-C3065D33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8120" y="504720"/>
            <a:ext cx="8029440" cy="1260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f020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8120" y="2184120"/>
            <a:ext cx="8029440" cy="2164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8120" y="4554720"/>
            <a:ext cx="8029440" cy="2164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F2B8-F09C-4693-83EE-4629697B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8120" y="504720"/>
            <a:ext cx="8029440" cy="1260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f020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8120" y="2184120"/>
            <a:ext cx="3918240" cy="2164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2560" y="2184120"/>
            <a:ext cx="3918240" cy="2164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8120" y="4554720"/>
            <a:ext cx="3918240" cy="2164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2560" y="4554720"/>
            <a:ext cx="3918240" cy="2164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652C-5ED3-445E-A222-14D7262E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8120" y="504720"/>
            <a:ext cx="8029440" cy="1260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f020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8120" y="2184120"/>
            <a:ext cx="2585160" cy="2164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2880" y="2184120"/>
            <a:ext cx="2585160" cy="2164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7640" y="2184120"/>
            <a:ext cx="2585160" cy="2164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8120" y="4554720"/>
            <a:ext cx="2585160" cy="2164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2880" y="4554720"/>
            <a:ext cx="2585160" cy="2164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7640" y="4554720"/>
            <a:ext cx="2585160" cy="2164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4231-B3F2-4409-9354-84E71E928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DA90-B2F4-4246-9CAA-06EDA5B00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8120" y="504720"/>
            <a:ext cx="8029440" cy="1260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f020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08120" y="2184120"/>
            <a:ext cx="802944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DAB3-E884-4A47-B72A-B8D71AB9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08120" y="504720"/>
            <a:ext cx="8029440" cy="1260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f020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08120" y="2184120"/>
            <a:ext cx="8029440" cy="4538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FE00-FAB5-405B-BDFE-11EE7EB5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120" y="504720"/>
            <a:ext cx="8029440" cy="1260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f020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08120" y="2184120"/>
            <a:ext cx="3918240" cy="4538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22560" y="2184120"/>
            <a:ext cx="3918240" cy="4538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C4C1-9E17-472E-A3DC-EA593568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8120" y="504720"/>
            <a:ext cx="8029440" cy="1260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f020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B1E8-6BEE-4DE5-BC35-EFB5D896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08120" y="504720"/>
            <a:ext cx="802944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A5A1-C275-4744-9F53-B1523AD7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8120" y="504720"/>
            <a:ext cx="8029440" cy="1260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f0201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08120" y="2184120"/>
            <a:ext cx="3918240" cy="2164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22560" y="2184120"/>
            <a:ext cx="3918240" cy="4538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08120" y="4554720"/>
            <a:ext cx="3918240" cy="2164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8ED8-4D0A-4EAB-8F64-BB1428C3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08120" y="504720"/>
            <a:ext cx="8029440" cy="1260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f020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8120" y="2184120"/>
            <a:ext cx="802944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B9B0-85B0-4CB6-A0FA-8963517E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120" y="504720"/>
            <a:ext cx="8029440" cy="1260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f0201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08120" y="2184120"/>
            <a:ext cx="3918240" cy="4538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22560" y="2184120"/>
            <a:ext cx="3918240" cy="2164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22560" y="4554720"/>
            <a:ext cx="3918240" cy="2164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011F-6A81-4489-B3F0-E43ECBFC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120" y="504720"/>
            <a:ext cx="8029440" cy="1260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f020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08120" y="2184120"/>
            <a:ext cx="3918240" cy="2164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2560" y="2184120"/>
            <a:ext cx="3918240" cy="2164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08120" y="4554720"/>
            <a:ext cx="8029440" cy="2164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BBE2-DFD2-459E-BB6B-2E5FE845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120" y="504720"/>
            <a:ext cx="8029440" cy="1260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f0201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08120" y="2184120"/>
            <a:ext cx="8029440" cy="2164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08120" y="4554720"/>
            <a:ext cx="8029440" cy="2164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77AF-E1C0-404B-9AC0-BD223FA5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8120" y="504720"/>
            <a:ext cx="8029440" cy="1260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f0201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08120" y="2184120"/>
            <a:ext cx="3918240" cy="2164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2560" y="2184120"/>
            <a:ext cx="3918240" cy="2164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08120" y="4554720"/>
            <a:ext cx="3918240" cy="2164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22560" y="4554720"/>
            <a:ext cx="3918240" cy="2164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6888-A505-4D7A-A76C-77E604067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08120" y="504720"/>
            <a:ext cx="8029440" cy="1260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f020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08120" y="2184120"/>
            <a:ext cx="2585160" cy="2164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22880" y="2184120"/>
            <a:ext cx="2585160" cy="2164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37640" y="2184120"/>
            <a:ext cx="2585160" cy="2164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08120" y="4554720"/>
            <a:ext cx="2585160" cy="2164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22880" y="4554720"/>
            <a:ext cx="2585160" cy="2164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37640" y="4554720"/>
            <a:ext cx="2585160" cy="2164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CE9B-BD84-44E2-A162-792CA4D7F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8120" y="504720"/>
            <a:ext cx="8029440" cy="1260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f020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8120" y="2184120"/>
            <a:ext cx="8029440" cy="4538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4B2B-17FF-40A6-810B-56450AA7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8120" y="504720"/>
            <a:ext cx="8029440" cy="1260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f020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8120" y="2184120"/>
            <a:ext cx="3918240" cy="4538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2560" y="2184120"/>
            <a:ext cx="3918240" cy="4538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EC8B-DCCA-404D-83CB-EC064B65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8120" y="504720"/>
            <a:ext cx="8029440" cy="1260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f020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FF93-145C-43C6-94D8-7C9FD234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08120" y="504720"/>
            <a:ext cx="802944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102D-8DD2-48C6-B65B-BB40F933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8120" y="504720"/>
            <a:ext cx="8029440" cy="1260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f020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8120" y="2184120"/>
            <a:ext cx="3918240" cy="2164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2560" y="2184120"/>
            <a:ext cx="3918240" cy="4538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8120" y="4554720"/>
            <a:ext cx="3918240" cy="2164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A8D6-8AF9-4F00-9BDA-B454FCDD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8120" y="504720"/>
            <a:ext cx="8029440" cy="1260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f020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8120" y="2184120"/>
            <a:ext cx="3918240" cy="4538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2560" y="2184120"/>
            <a:ext cx="3918240" cy="2164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2560" y="4554720"/>
            <a:ext cx="3918240" cy="2164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5880-93D4-4282-98A5-3A5812D1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8120" y="504720"/>
            <a:ext cx="8029440" cy="1260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4700" spc="-1" strike="noStrike">
              <a:solidFill>
                <a:srgbClr val="0f020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8120" y="2184120"/>
            <a:ext cx="3918240" cy="2164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2560" y="2184120"/>
            <a:ext cx="3918240" cy="2164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8120" y="4554720"/>
            <a:ext cx="8029440" cy="2164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03BB-BE19-406C-8E19-7438E99C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4a2"/>
            </a:gs>
            <a:gs pos="50000">
              <a:srgbClr val="93957b"/>
            </a:gs>
            <a:gs pos="100000">
              <a:srgbClr val="c1c4a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8120" y="504720"/>
            <a:ext cx="8029440" cy="1260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4700" spc="-1" strike="noStrike">
                <a:solidFill>
                  <a:srgbClr val="0f0201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f020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8120" y="2184120"/>
            <a:ext cx="8029440" cy="4538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5040" indent="-365040">
              <a:spcBef>
                <a:spcPts val="850"/>
              </a:spcBef>
              <a:buClr>
                <a:srgbClr val="3228b8"/>
              </a:buClr>
              <a:buFont typeface="Monotype Sorts" charset="2"/>
              <a:buChar char="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303480">
              <a:spcBef>
                <a:spcPts val="850"/>
              </a:spcBef>
              <a:buClr>
                <a:srgbClr val="3228b8"/>
              </a:buClr>
              <a:buSzPct val="50000"/>
              <a:buFont typeface="Monotype Sorts" charset="2"/>
              <a:buChar char="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4280" indent="-2426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00280" indent="-24300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85920" indent="-24264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85920" indent="-24264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85920" indent="-24264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8120" y="6891120"/>
            <a:ext cx="1968480" cy="5029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27400" y="6891120"/>
            <a:ext cx="2990880" cy="5029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69080" y="6891120"/>
            <a:ext cx="1968480" cy="5029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lstStyle>
            <a:lvl1pPr indent="0" algn="r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3228b8"/>
                </a:solidFill>
                <a:latin typeface="Times New Roman"/>
              </a:defRPr>
            </a:lvl1pPr>
          </a:lstStyle>
          <a:p>
            <a:pPr indent="0" algn="r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6A60-CD7B-4484-8091-185095156249}" type="slidenum">
              <a:rPr b="0" lang="en-US" sz="1500" spc="-1" strike="noStrike">
                <a:solidFill>
                  <a:srgbClr val="3228b8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4a2"/>
            </a:gs>
            <a:gs pos="50000">
              <a:srgbClr val="93957b"/>
            </a:gs>
            <a:gs pos="100000">
              <a:srgbClr val="c1c4a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050"/>
          <p:cNvSpPr/>
          <p:nvPr/>
        </p:nvSpPr>
        <p:spPr>
          <a:xfrm>
            <a:off x="712800" y="3683160"/>
            <a:ext cx="7905600" cy="536400"/>
          </a:xfrm>
          <a:custGeom>
            <a:avLst/>
            <a:gdLst>
              <a:gd name="textAreaLeft" fmla="*/ 0 w 7905600"/>
              <a:gd name="textAreaRight" fmla="*/ 7905960 w 7905600"/>
              <a:gd name="textAreaTop" fmla="*/ 0 h 536400"/>
              <a:gd name="textAreaBottom" fmla="*/ 536760 h 53640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08120" y="504720"/>
            <a:ext cx="8029440" cy="1260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4700" spc="-1" strike="noStrike">
                <a:solidFill>
                  <a:srgbClr val="0f0201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f020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8120" y="2184120"/>
            <a:ext cx="8029440" cy="4538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5040" indent="-365040">
              <a:spcBef>
                <a:spcPts val="850"/>
              </a:spcBef>
              <a:buClr>
                <a:srgbClr val="3228b8"/>
              </a:buClr>
              <a:buFont typeface="Monotype Sorts" charset="2"/>
              <a:buChar char="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303480">
              <a:spcBef>
                <a:spcPts val="850"/>
              </a:spcBef>
              <a:buClr>
                <a:srgbClr val="3228b8"/>
              </a:buClr>
              <a:buSzPct val="50000"/>
              <a:buFont typeface="Monotype Sorts" charset="2"/>
              <a:buChar char="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4280" indent="-2426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00280" indent="-24300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85920" indent="-24264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85920" indent="-24264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85920" indent="-24264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708120" y="6891120"/>
            <a:ext cx="1968480" cy="5029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227400" y="6891120"/>
            <a:ext cx="2990880" cy="5029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69080" y="6891120"/>
            <a:ext cx="1968480" cy="5029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lstStyle>
            <a:lvl1pPr indent="0" algn="r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9442-10FE-49A1-86E3-9D57CD38A744}" type="slidenum">
              <a:rPr b="0" lang="en-US" sz="15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08120" y="2520720"/>
            <a:ext cx="8029440" cy="1260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4700" spc="-1" strike="noStrike">
                <a:solidFill>
                  <a:srgbClr val="0f0201"/>
                </a:solidFill>
                <a:latin typeface="Times New Roman"/>
              </a:rPr>
              <a:t>Reconstruction</a:t>
            </a:r>
            <a:endParaRPr b="0" lang="en-US" sz="4700" spc="-1" strike="noStrike">
              <a:solidFill>
                <a:srgbClr val="0f0201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17680" y="4285800"/>
            <a:ext cx="6611760" cy="1932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-228960"/>
            <a:ext cx="8294760" cy="1260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4700" spc="-1" strike="noStrike">
                <a:solidFill>
                  <a:srgbClr val="0f0201"/>
                </a:solidFill>
                <a:latin typeface="Times New Roman"/>
              </a:rPr>
              <a:t>Congressional Reconstruction</a:t>
            </a:r>
            <a:endParaRPr b="0" lang="en-US" sz="4700" spc="-1" strike="noStrike">
              <a:solidFill>
                <a:srgbClr val="0f0201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-360"/>
            <a:ext cx="8029440" cy="4538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5040"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spcBef>
                <a:spcPts val="850"/>
              </a:spcBef>
              <a:buClr>
                <a:srgbClr val="3228b8"/>
              </a:buClr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1867 Congressional Reconstruction Ac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303480">
              <a:spcBef>
                <a:spcPts val="751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 military distri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303480">
              <a:spcBef>
                <a:spcPts val="751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ilitary make arrests, tri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303480">
              <a:spcBef>
                <a:spcPts val="751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ilitary directs constitu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303480">
              <a:spcBef>
                <a:spcPts val="751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ot extremely radic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recon map"/>
          <p:cNvPicPr/>
          <p:nvPr/>
        </p:nvPicPr>
        <p:blipFill>
          <a:blip r:embed="rId1"/>
          <a:stretch/>
        </p:blipFill>
        <p:spPr>
          <a:xfrm>
            <a:off x="1523880" y="3505320"/>
            <a:ext cx="6324840" cy="42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8294760" cy="1260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4700" spc="-1" strike="noStrike">
                <a:solidFill>
                  <a:srgbClr val="0f0201"/>
                </a:solidFill>
                <a:latin typeface="Times New Roman"/>
              </a:rPr>
              <a:t>Johnson Impeachment</a:t>
            </a:r>
            <a:endParaRPr b="0" lang="en-US" sz="4700" spc="-1" strike="noStrike">
              <a:solidFill>
                <a:srgbClr val="0f0201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8029440" cy="4538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 fontScale="87000"/>
          </a:bodyPr>
          <a:p>
            <a:pPr marL="317520"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spcBef>
                <a:spcPts val="850"/>
              </a:spcBef>
              <a:buClr>
                <a:srgbClr val="3228b8"/>
              </a:buClr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mpeachment of Johns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6520" indent="-263880">
              <a:spcBef>
                <a:spcPts val="751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adical crusa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spcBef>
                <a:spcPts val="850"/>
              </a:spcBef>
              <a:buClr>
                <a:srgbClr val="3228b8"/>
              </a:buClr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ailure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6520" indent="-263880">
              <a:spcBef>
                <a:spcPts val="751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ring down presidential off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6520" indent="-263880">
              <a:spcBef>
                <a:spcPts val="751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ck of clear cri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6520" indent="-263880">
              <a:spcBef>
                <a:spcPts val="751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ccessor = Ben Wa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6520" indent="-263880">
              <a:spcBef>
                <a:spcPts val="751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wy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6520" indent="-263880">
              <a:spcBef>
                <a:spcPts val="751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Johnson qui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188040" y="1828800"/>
            <a:ext cx="325764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4700" spc="-1" strike="noStrike">
                <a:solidFill>
                  <a:srgbClr val="0f0201"/>
                </a:solidFill>
                <a:latin typeface="Times New Roman"/>
              </a:rPr>
              <a:t>Reconstruction Laws &amp; Acts</a:t>
            </a:r>
            <a:endParaRPr b="0" lang="en-US" sz="4700" spc="-1" strike="noStrike">
              <a:solidFill>
                <a:srgbClr val="0f020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3120" y="1266480"/>
            <a:ext cx="8686800" cy="4538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5040" indent="-365040">
              <a:spcBef>
                <a:spcPts val="850"/>
              </a:spcBef>
              <a:buClr>
                <a:srgbClr val="3228b8"/>
              </a:buClr>
              <a:buFont typeface="Monotype Sorts" charset="2"/>
              <a:buChar char="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1870 15th Amend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303480">
              <a:spcBef>
                <a:spcPts val="751"/>
              </a:spcBef>
              <a:buClr>
                <a:srgbClr val="3228b8"/>
              </a:buClr>
              <a:buSzPct val="50000"/>
              <a:buFont typeface="Monotype Sorts" charset="2"/>
              <a:buChar char="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bade states to deny any citizen the right to vote on grounds of race, color, or previous condition of servitu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3765600" cy="622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4700" spc="-1" strike="noStrike">
                <a:solidFill>
                  <a:srgbClr val="0f0201"/>
                </a:solidFill>
                <a:latin typeface="Times New Roman"/>
              </a:rPr>
              <a:t>Decline of the Radicals</a:t>
            </a:r>
            <a:endParaRPr b="0" lang="en-US" sz="4700" spc="-1" strike="noStrike">
              <a:solidFill>
                <a:srgbClr val="0f0201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3938760" cy="4538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 fontScale="87000"/>
          </a:bodyPr>
          <a:p>
            <a:pPr marL="317520" indent="0">
              <a:spcBef>
                <a:spcPts val="751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spcBef>
                <a:spcPts val="751"/>
              </a:spcBef>
              <a:buClr>
                <a:srgbClr val="3228b8"/>
              </a:buClr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mall in numb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spcBef>
                <a:spcPts val="751"/>
              </a:spcBef>
              <a:buClr>
                <a:srgbClr val="3228b8"/>
              </a:buClr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Johnson qui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spcBef>
                <a:spcPts val="751"/>
              </a:spcBef>
              <a:buClr>
                <a:srgbClr val="3228b8"/>
              </a:buClr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adicals divid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spcBef>
                <a:spcPts val="751"/>
              </a:spcBef>
              <a:buClr>
                <a:srgbClr val="3228b8"/>
              </a:buClr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ouble staying in off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spcBef>
                <a:spcPts val="751"/>
              </a:spcBef>
              <a:buClr>
                <a:srgbClr val="3228b8"/>
              </a:buClr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at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spcBef>
                <a:spcPts val="751"/>
              </a:spcBef>
              <a:buClr>
                <a:srgbClr val="3228b8"/>
              </a:buClr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.S. Gra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6520" indent="-263880">
              <a:spcBef>
                <a:spcPts val="649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andals: political appointments, favors to businessmen and railroa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0">
              <a:spcBef>
                <a:spcPts val="751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5" descr="grantism"/>
          <p:cNvPicPr/>
          <p:nvPr/>
        </p:nvPicPr>
        <p:blipFill>
          <a:blip r:embed="rId1"/>
          <a:stretch/>
        </p:blipFill>
        <p:spPr>
          <a:xfrm>
            <a:off x="5424480" y="0"/>
            <a:ext cx="4021200" cy="756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029440" cy="6984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4700" spc="-1" strike="noStrike">
                <a:solidFill>
                  <a:srgbClr val="0f0201"/>
                </a:solidFill>
                <a:latin typeface="Times New Roman"/>
              </a:rPr>
              <a:t>New Leadership in the South</a:t>
            </a:r>
            <a:endParaRPr b="0" lang="en-US" sz="4700" spc="-1" strike="noStrike">
              <a:solidFill>
                <a:srgbClr val="0f0201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3938760" cy="4538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 fontScale="86000"/>
          </a:bodyPr>
          <a:p>
            <a:pPr marL="313920" indent="0">
              <a:spcBef>
                <a:spcPts val="751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3920" indent="-313920">
              <a:spcBef>
                <a:spcPts val="751"/>
              </a:spcBef>
              <a:buClr>
                <a:srgbClr val="3228b8"/>
              </a:buClr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ant presidenc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60640">
              <a:spcBef>
                <a:spcPts val="649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rthern milita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60640">
              <a:spcBef>
                <a:spcPts val="649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reedmen’s Burea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60640">
              <a:spcBef>
                <a:spcPts val="649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rpetbaggers, scalawags, black politici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60640">
              <a:spcBef>
                <a:spcPts val="649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870, Union restor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3920" indent="-313920">
              <a:spcBef>
                <a:spcPts val="751"/>
              </a:spcBef>
              <a:buClr>
                <a:srgbClr val="3228b8"/>
              </a:buClr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lack politici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60640">
              <a:spcBef>
                <a:spcPts val="649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2 Congressm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60640">
              <a:spcBef>
                <a:spcPts val="649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o few for great impa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reprecon"/>
          <p:cNvPicPr/>
          <p:nvPr/>
        </p:nvPicPr>
        <p:blipFill>
          <a:blip r:embed="rId1"/>
          <a:stretch/>
        </p:blipFill>
        <p:spPr>
          <a:xfrm>
            <a:off x="4351320" y="762120"/>
            <a:ext cx="5094360" cy="6800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2"/>
          <a:stretch/>
        </p:blipFill>
        <p:spPr>
          <a:xfrm>
            <a:off x="4570560" y="1114560"/>
            <a:ext cx="4492440" cy="441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29800" cy="6984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4700" spc="-1" strike="noStrike">
                <a:solidFill>
                  <a:srgbClr val="0f0201"/>
                </a:solidFill>
                <a:latin typeface="Times New Roman"/>
              </a:rPr>
              <a:t>Republican Reconstruction</a:t>
            </a:r>
            <a:endParaRPr b="0" lang="en-US" sz="4700" spc="-1" strike="noStrike">
              <a:solidFill>
                <a:srgbClr val="0f0201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7924680" cy="3548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5040" indent="-365040">
              <a:spcBef>
                <a:spcPts val="751"/>
              </a:spcBef>
              <a:buClr>
                <a:srgbClr val="3228b8"/>
              </a:buClr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sitive aspec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303480">
              <a:spcBef>
                <a:spcPts val="649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blic educ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303480">
              <a:spcBef>
                <a:spcPts val="649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fficiency of govern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303480">
              <a:spcBef>
                <a:spcPts val="649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blic buildings, roads, manufactu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303480">
              <a:spcBef>
                <a:spcPts val="649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cial services (orphanages, hospitals, welfar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303480">
              <a:spcBef>
                <a:spcPts val="649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pital/invest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303480">
              <a:spcBef>
                <a:spcPts val="649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litical democra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29800" cy="6984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4700" spc="-1" strike="noStrike">
                <a:solidFill>
                  <a:srgbClr val="0f0201"/>
                </a:solidFill>
                <a:latin typeface="Times New Roman"/>
              </a:rPr>
              <a:t>Republican Reconstruction</a:t>
            </a:r>
            <a:endParaRPr b="0" lang="en-US" sz="4700" spc="-1" strike="noStrike">
              <a:solidFill>
                <a:srgbClr val="0f0201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7924680" cy="3548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 fontScale="59000"/>
          </a:bodyPr>
          <a:p>
            <a:pPr marL="215280" indent="-215280">
              <a:spcBef>
                <a:spcPts val="751"/>
              </a:spcBef>
              <a:buClr>
                <a:srgbClr val="3228b8"/>
              </a:buClr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cline 1870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5480" indent="-178920">
              <a:spcBef>
                <a:spcPts val="649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ther concer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65480" indent="-178920">
              <a:spcBef>
                <a:spcPts val="649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rruption, depres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65480" indent="-178920">
              <a:spcBef>
                <a:spcPts val="649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lfax Massac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16400" indent="-142920">
              <a:spcBef>
                <a:spcPts val="550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U.S. v. Cruikshan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5280" indent="-215280">
              <a:spcBef>
                <a:spcPts val="751"/>
              </a:spcBef>
              <a:buClr>
                <a:srgbClr val="3228b8"/>
              </a:buClr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promise of 1877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5480" indent="-178920">
              <a:spcBef>
                <a:spcPts val="649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m. – Samuel J. Tilden, N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65480" indent="-178920">
              <a:spcBef>
                <a:spcPts val="649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. – Rutherford B. Hayes, O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65480" indent="-178920">
              <a:spcBef>
                <a:spcPts val="649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ayes wins, 185-18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65480" indent="-178920">
              <a:spcBef>
                <a:spcPts val="649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ublicans withdraw N suppo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15280" indent="-215280">
              <a:spcBef>
                <a:spcPts val="751"/>
              </a:spcBef>
              <a:buClr>
                <a:srgbClr val="3228b8"/>
              </a:buClr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gacy of Reconstru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5480" indent="-178920">
              <a:spcBef>
                <a:spcPts val="649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merica’s unfinished revolution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029440" cy="1260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4700" spc="-1" strike="noStrike">
                <a:solidFill>
                  <a:srgbClr val="0f0201"/>
                </a:solidFill>
                <a:latin typeface="Times New Roman"/>
              </a:rPr>
              <a:t>The Destruction of the War</a:t>
            </a:r>
            <a:endParaRPr b="0" lang="en-US" sz="4700" spc="-1" strike="noStrike">
              <a:solidFill>
                <a:srgbClr val="0f0201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8120" y="2184120"/>
            <a:ext cx="3938400" cy="4538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" descr="atlanta1864 2"/>
          <p:cNvPicPr/>
          <p:nvPr/>
        </p:nvPicPr>
        <p:blipFill>
          <a:blip r:embed="rId1"/>
          <a:stretch/>
        </p:blipFill>
        <p:spPr>
          <a:xfrm>
            <a:off x="0" y="2057400"/>
            <a:ext cx="94456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4191120" cy="12160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4700" spc="-1" strike="noStrike">
                <a:solidFill>
                  <a:srgbClr val="0f0201"/>
                </a:solidFill>
                <a:latin typeface="Times New Roman"/>
              </a:rPr>
              <a:t>Presidential Reconstruction</a:t>
            </a:r>
            <a:endParaRPr b="0" lang="en-US" sz="4700" spc="-1" strike="noStrike">
              <a:solidFill>
                <a:srgbClr val="0f020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029440" cy="3903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 fontScale="76000"/>
          </a:bodyPr>
          <a:p>
            <a:pPr marL="277200" indent="-277200">
              <a:spcBef>
                <a:spcPts val="850"/>
              </a:spcBef>
              <a:buClr>
                <a:srgbClr val="3228b8"/>
              </a:buClr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braham Lincol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9400" indent="-230400">
              <a:spcBef>
                <a:spcPts val="751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artime a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9400" indent="-230400">
              <a:spcBef>
                <a:spcPts val="751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mancipation Proclamation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680" indent="-184320">
              <a:spcBef>
                <a:spcPts val="649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ar still in doub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680" indent="-184320">
              <a:spcBef>
                <a:spcPts val="649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ugitive sla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680" indent="-184320">
              <a:spcBef>
                <a:spcPts val="649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laves boost Confed. Cau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680" indent="-184320">
              <a:spcBef>
                <a:spcPts val="649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rthern mora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680" indent="-184320">
              <a:spcBef>
                <a:spcPts val="649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blic opin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680" indent="-184320">
              <a:spcBef>
                <a:spcPts val="649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rance and Brita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680" indent="-184320">
              <a:spcBef>
                <a:spcPts val="649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ra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lincoln"/>
          <p:cNvPicPr/>
          <p:nvPr/>
        </p:nvPicPr>
        <p:blipFill>
          <a:blip r:embed="rId1"/>
          <a:stretch/>
        </p:blipFill>
        <p:spPr>
          <a:xfrm>
            <a:off x="6087960" y="228600"/>
            <a:ext cx="2930760" cy="699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4191120" cy="12160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4700" spc="-1" strike="noStrike">
                <a:solidFill>
                  <a:srgbClr val="0f0201"/>
                </a:solidFill>
                <a:latin typeface="Times New Roman"/>
              </a:rPr>
              <a:t>Presidential Reconstruction</a:t>
            </a:r>
            <a:endParaRPr b="0" lang="en-US" sz="4700" spc="-1" strike="noStrike">
              <a:solidFill>
                <a:srgbClr val="0f0201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029440" cy="3903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 fontScale="86000"/>
          </a:bodyPr>
          <a:p>
            <a:pPr marL="313920"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3920" indent="-313920">
              <a:spcBef>
                <a:spcPts val="850"/>
              </a:spcBef>
              <a:buClr>
                <a:srgbClr val="3228b8"/>
              </a:buClr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incoln - 10% Plan*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60640">
              <a:spcBef>
                <a:spcPts val="751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0% loyalty oat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60640">
              <a:spcBef>
                <a:spcPts val="751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bolish slave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60640">
              <a:spcBef>
                <a:spcPts val="751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orthern opposi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4000" indent="-208440">
              <a:spcBef>
                <a:spcPts val="649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ade-Davis Bill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4000" indent="-208440">
              <a:spcBef>
                <a:spcPts val="649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0% Ironclad oa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3920" indent="-313920">
              <a:spcBef>
                <a:spcPts val="850"/>
              </a:spcBef>
              <a:buClr>
                <a:srgbClr val="3228b8"/>
              </a:buClr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13th Amend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3920"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3920"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028" descr="lincoln"/>
          <p:cNvPicPr/>
          <p:nvPr/>
        </p:nvPicPr>
        <p:blipFill>
          <a:blip r:embed="rId1"/>
          <a:stretch/>
        </p:blipFill>
        <p:spPr>
          <a:xfrm>
            <a:off x="6087960" y="228600"/>
            <a:ext cx="2930760" cy="699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029440" cy="1260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4700" spc="-1" strike="noStrike">
                <a:solidFill>
                  <a:srgbClr val="0f0201"/>
                </a:solidFill>
                <a:latin typeface="Times New Roman"/>
              </a:rPr>
              <a:t>Presidential Reconstruction</a:t>
            </a:r>
            <a:endParaRPr b="0" lang="en-US" sz="4700" spc="-1" strike="noStrike">
              <a:solidFill>
                <a:srgbClr val="0f020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938760" cy="4538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5040" indent="0">
              <a:spcBef>
                <a:spcPts val="751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spcBef>
                <a:spcPts val="751"/>
              </a:spcBef>
              <a:buClr>
                <a:srgbClr val="3228b8"/>
              </a:buClr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rew Johnson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303480">
              <a:spcBef>
                <a:spcPts val="649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l pard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303480">
              <a:spcBef>
                <a:spcPts val="649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l. M.F. Pleasants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303480">
              <a:spcBef>
                <a:spcPts val="649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oting = state issu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303480">
              <a:spcBef>
                <a:spcPts val="649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ession illeg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303480">
              <a:spcBef>
                <a:spcPts val="649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udiate Confed. deb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303480">
              <a:spcBef>
                <a:spcPts val="649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bolish slave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0">
              <a:spcBef>
                <a:spcPts val="751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0">
              <a:spcBef>
                <a:spcPts val="751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029" descr="andrewjohnson"/>
          <p:cNvPicPr/>
          <p:nvPr/>
        </p:nvPicPr>
        <p:blipFill>
          <a:blip r:embed="rId1"/>
          <a:stretch/>
        </p:blipFill>
        <p:spPr>
          <a:xfrm>
            <a:off x="3886200" y="1523880"/>
            <a:ext cx="562284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3940200" cy="851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4700" spc="-1" strike="noStrike">
                <a:solidFill>
                  <a:srgbClr val="0f0201"/>
                </a:solidFill>
                <a:latin typeface="Times New Roman"/>
              </a:rPr>
              <a:t>Black Codes*</a:t>
            </a:r>
            <a:endParaRPr b="0" lang="en-US" sz="4700" spc="-1" strike="noStrike">
              <a:solidFill>
                <a:srgbClr val="0f020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4538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 fontScale="66000"/>
          </a:bodyPr>
          <a:p>
            <a:pPr marL="240840" indent="-240840">
              <a:spcBef>
                <a:spcPts val="850"/>
              </a:spcBef>
              <a:buClr>
                <a:srgbClr val="3228b8"/>
              </a:buClr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00160">
              <a:spcBef>
                <a:spcPts val="751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00160">
              <a:spcBef>
                <a:spcPts val="751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isregard federal gov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00160">
              <a:spcBef>
                <a:spcPts val="751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ear black retali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00160">
              <a:spcBef>
                <a:spcPts val="751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bor supp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00160">
              <a:spcBef>
                <a:spcPts val="751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acis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40840" indent="-240840">
              <a:spcBef>
                <a:spcPts val="850"/>
              </a:spcBef>
              <a:buClr>
                <a:srgbClr val="3228b8"/>
              </a:buClr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00160">
              <a:spcBef>
                <a:spcPts val="751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eedmen no testify vs. whi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00160">
              <a:spcBef>
                <a:spcPts val="751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Vagrancy law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00160">
              <a:spcBef>
                <a:spcPts val="751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x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00160">
              <a:spcBef>
                <a:spcPts val="751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ipp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00160">
              <a:spcBef>
                <a:spcPts val="751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lacks called “servant”, whites called “master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029440" cy="1260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4700" spc="-1" strike="noStrike">
                <a:solidFill>
                  <a:srgbClr val="0f0201"/>
                </a:solidFill>
                <a:latin typeface="Times New Roman"/>
              </a:rPr>
              <a:t>Johnson’s declining popularity</a:t>
            </a:r>
            <a:endParaRPr b="0" lang="en-US" sz="4700" spc="-1" strike="noStrike">
              <a:solidFill>
                <a:srgbClr val="0f0201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343160"/>
            <a:ext cx="8609040" cy="5943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5040" indent="-365040">
              <a:lnSpc>
                <a:spcPct val="90000"/>
              </a:lnSpc>
              <a:spcBef>
                <a:spcPts val="751"/>
              </a:spcBef>
              <a:buClr>
                <a:srgbClr val="3228b8"/>
              </a:buClr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emphis riot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751"/>
              </a:spcBef>
              <a:buClr>
                <a:srgbClr val="3228b8"/>
              </a:buClr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isputes with Congr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303480">
              <a:lnSpc>
                <a:spcPct val="90000"/>
              </a:lnSpc>
              <a:spcBef>
                <a:spcPts val="649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reedmen’s Burea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303480">
              <a:lnSpc>
                <a:spcPct val="90000"/>
              </a:lnSpc>
              <a:spcBef>
                <a:spcPts val="649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ivil Rights bi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303480">
              <a:lnSpc>
                <a:spcPct val="90000"/>
              </a:lnSpc>
              <a:spcBef>
                <a:spcPts val="649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4th Amend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751"/>
              </a:spcBef>
              <a:buClr>
                <a:srgbClr val="3228b8"/>
              </a:buClr>
              <a:buFont typeface="Monotype Sorts" charset="2"/>
              <a:buChar char="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866 Civil Rights A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751"/>
              </a:spcBef>
              <a:buClr>
                <a:srgbClr val="3228b8"/>
              </a:buClr>
              <a:buFont typeface="Monotype Sorts" charset="2"/>
              <a:buChar char="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866 14th Amend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4280" indent="-24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itizenship for all persons - regardless of race - born or naturalized in 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4280" indent="-24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bade states from abridging privileges of citize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4280" indent="-24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uaranteed due process of the la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4280" indent="-24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qual protection of the la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751"/>
              </a:spcBef>
              <a:buClr>
                <a:srgbClr val="3228b8"/>
              </a:buClr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wing Around the Circle”*, 186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4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8294760" cy="1260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4700" spc="-1" strike="noStrike">
                <a:solidFill>
                  <a:srgbClr val="0f0201"/>
                </a:solidFill>
                <a:latin typeface="Times New Roman"/>
              </a:rPr>
              <a:t>Congressional Reconstruction</a:t>
            </a:r>
            <a:endParaRPr b="0" lang="en-US" sz="4700" spc="-1" strike="noStrike">
              <a:solidFill>
                <a:srgbClr val="0f020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8029440" cy="4538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 fontScale="75000"/>
          </a:bodyPr>
          <a:p>
            <a:pPr marL="273600"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73600" indent="-273600">
              <a:spcBef>
                <a:spcPts val="850"/>
              </a:spcBef>
              <a:buClr>
                <a:srgbClr val="3228b8"/>
              </a:buClr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adical Republica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7520">
              <a:spcBef>
                <a:spcPts val="751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o were they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0440" indent="-181800">
              <a:spcBef>
                <a:spcPts val="649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addeus Stevens, P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0440" indent="-181800">
              <a:spcBef>
                <a:spcPts val="649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harles Sumner, 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7520">
              <a:spcBef>
                <a:spcPts val="751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were their goal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0440" indent="-181800">
              <a:spcBef>
                <a:spcPts val="649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tection of freedmen and support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0440" indent="-181800">
              <a:spcBef>
                <a:spcPts val="649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ull citizenship of freedm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0440" indent="-181800">
              <a:spcBef>
                <a:spcPts val="649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n conservative suppo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0440" indent="-181800">
              <a:spcBef>
                <a:spcPts val="649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me extreme view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75120" indent="-182160">
              <a:spcBef>
                <a:spcPts val="524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trip Southerners of citizenshi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75120" indent="-182160">
              <a:spcBef>
                <a:spcPts val="524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fiscate lan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73600"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6423120" y="1676520"/>
            <a:ext cx="3022560" cy="481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8294760" cy="1260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4700" spc="-1" strike="noStrike">
                <a:solidFill>
                  <a:srgbClr val="0f0201"/>
                </a:solidFill>
                <a:latin typeface="Times New Roman"/>
              </a:rPr>
              <a:t>Congressional Reconstruction</a:t>
            </a:r>
            <a:endParaRPr b="0" lang="en-US" sz="4700" spc="-1" strike="noStrike">
              <a:solidFill>
                <a:srgbClr val="0f020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572000" cy="4538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5040"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spcBef>
                <a:spcPts val="850"/>
              </a:spcBef>
              <a:buClr>
                <a:srgbClr val="3228b8"/>
              </a:buClr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e Stevens Plan*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303480">
              <a:spcBef>
                <a:spcPts val="751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ederal officials supervise elec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303480">
              <a:spcBef>
                <a:spcPts val="751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lacks vo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303480">
              <a:spcBef>
                <a:spcPts val="751"/>
              </a:spcBef>
              <a:buClr>
                <a:srgbClr val="3228b8"/>
              </a:buClr>
              <a:buSzPct val="50000"/>
              <a:buFont typeface="Monotype Sorts" charset="2"/>
              <a:buChar char=""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ites stripped of citizenshi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0">
              <a:spcBef>
                <a:spcPts val="850"/>
              </a:spcBef>
              <a:buNone/>
              <a:tabLst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4683240" y="1514520"/>
            <a:ext cx="4762440" cy="60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5T16:39:55Z</dcterms:created>
  <dc:creator>Kevin Witherspoon</dc:creator>
  <dc:description/>
  <dc:language>en-US</dc:language>
  <cp:lastModifiedBy>kwitherspoon</cp:lastModifiedBy>
  <cp:lastPrinted>2001-07-17T03:39:48Z</cp:lastPrinted>
  <dcterms:modified xsi:type="dcterms:W3CDTF">2010-06-22T03:34:03Z</dcterms:modified>
  <cp:revision>21</cp:revision>
  <dc:subject/>
  <dc:title>The World in 1492</dc:title>
</cp:coreProperties>
</file>